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49636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О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1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минокиселине, протеини, масти и уља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засиће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митолеинска- 16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остеаринска-16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инска-18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цинолна-18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олеинска-18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оленска-18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хидонска-20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масти и у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0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а на двоструку ве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Хидрогенизациј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Адиција халог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Реакција 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кисео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рансестерификациј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хидратација глицер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ом масти настају соли карбоксилних киселина и глиц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1338120" y="3174840"/>
          <a:ext cx="6183360" cy="33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3174840"/>
                    <a:ext cx="6183360" cy="33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Box 2"/>
          <p:cNvSpPr/>
          <p:nvPr/>
        </p:nvSpPr>
        <p:spPr>
          <a:xfrm>
            <a:off x="1332000" y="5732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427640" y="5229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         сап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естер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е трансестерификацијом могу превести у метилестарске карбоксил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естерификација се врши у присуству базног или киселог катализатора и метан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"/>
          <p:cNvGraphicFramePr/>
          <p:nvPr/>
        </p:nvGraphicFramePr>
        <p:xfrm>
          <a:off x="1038240" y="3855960"/>
          <a:ext cx="694368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3855960"/>
                    <a:ext cx="69436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2"/>
          <p:cNvSpPr/>
          <p:nvPr/>
        </p:nvSpPr>
        <p:spPr>
          <a:xfrm>
            <a:off x="1116000" y="6367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136680" y="51516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076720" y="5589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  смеша метил- ест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џен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настали од примарних алкохола са  8 до 10 С атома користе се као омексивачи, док се естри настали од алкохола са 12 до 18 С атома користе за производњу детерџ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 детерџенти настају дејством етиленоксида на алкох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395280" y="3500280"/>
          <a:ext cx="82090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500280"/>
                    <a:ext cx="8209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2"/>
          <p:cNvSpPr/>
          <p:nvPr/>
        </p:nvSpPr>
        <p:spPr>
          <a:xfrm>
            <a:off x="530280" y="4140360"/>
            <a:ext cx="82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илалкохол                 лаурилхидрогенсулфат                  натријум-лаурилсул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179280" y="5373720"/>
          <a:ext cx="874260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373720"/>
                    <a:ext cx="87426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Box 4"/>
          <p:cNvSpPr/>
          <p:nvPr/>
        </p:nvSpPr>
        <p:spPr>
          <a:xfrm>
            <a:off x="684360" y="6122880"/>
            <a:ext cx="80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илалкохол</a:t>
            </a:r>
            <a:r>
              <a:rPr b="0" lang="sr-B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оксид                                           етокс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ове соли алкилбензенсулфонских киселина се најчешће употребљавају као детерџ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овање дугим низом на бензенов прстен врши се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del-Crafts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г катализатора и алкилхалогенида, алкена или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оновањем и неутрализацијом настају детерџ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826920" y="3828960"/>
          <a:ext cx="1944720" cy="22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828960"/>
                    <a:ext cx="194472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4"/>
          <p:cNvSpPr/>
          <p:nvPr/>
        </p:nvSpPr>
        <p:spPr>
          <a:xfrm>
            <a:off x="2853360" y="573264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ржавају делотворност и у тврдој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лип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две ацил-групе, док је трећа замењена остатком фосфор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ска мембрана садржи фосфолип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1042920" y="3608280"/>
          <a:ext cx="1974960" cy="26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608280"/>
                    <a:ext cx="1974960" cy="26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2"/>
          <p:cNvSpPr/>
          <p:nvPr/>
        </p:nvSpPr>
        <p:spPr>
          <a:xfrm>
            <a:off x="906120" y="64087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цилглицеролфос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708360" y="3933720"/>
          <a:ext cx="3220920" cy="19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933720"/>
                    <a:ext cx="322092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5"/>
          <p:cNvSpPr/>
          <p:nvPr/>
        </p:nvSpPr>
        <p:spPr>
          <a:xfrm>
            <a:off x="7236000" y="4437000"/>
            <a:ext cx="19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воструки слој фосфолипида повезан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als-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 си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и проте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060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r-B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једињења која садрже амино (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рбоксилну групу (-СО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роди постоји велики број аминокиселина, али се за синтезу протеина користи око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аминокиселине- људски организам не може да их синтетише, већ их мора унети хра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мино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4356000" y="5241960"/>
          <a:ext cx="266400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5241960"/>
                    <a:ext cx="26640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5430960" y="522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су амфотерна једињења, јер због функционалних група могу реаговати и као киселине          (-СООН) и као базе (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негативног индуктивног (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а 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B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, аминокиселине су јаче киселине од карбоксилних киселина, а слабије базе од примарних амина- последица 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ефекта –СООН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раствору се налазе у облику диполног јона (цвитерјона) или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00000" y="5295960"/>
          <a:ext cx="738360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295960"/>
                    <a:ext cx="73836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8" name="Straight Arrow Connector 5"/>
          <p:cNvCxnSpPr/>
          <p:nvPr/>
        </p:nvCxnSpPr>
        <p:spPr>
          <a:xfrm>
            <a:off x="2339640" y="5229360"/>
            <a:ext cx="165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TextBox 6"/>
          <p:cNvSpPr/>
          <p:nvPr/>
        </p:nvSpPr>
        <p:spPr>
          <a:xfrm>
            <a:off x="968400" y="6345360"/>
            <a:ext cx="76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и облик                      диполни јон                            анјонски об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 облику ће се аминокиселина наћи у воденом раствору 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 амино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- у веома киселим растворима аминокиселине се налазе у катјонском облику, а у јако базним у анјонском обл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електрична тачка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на којој је концентрација диполног јона максимална, док су концентрације катјонског и анјонског облика веома ниске и једна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чине основне органске компоненте ће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- важна резерва хране у организму; транспортни прекурсори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потиче од грчке речи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- масти у течном с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различите хемијске структуре, али све масти имају две заједничке карактерист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е су у води, а растворни у органским растварачима (етру, бензену, ацетону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и молекули садрже истовремено и поларне (хидрофилне) и неполарне (хидрофобне)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 природних амино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1403280" y="2205000"/>
          <a:ext cx="62038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05000"/>
                    <a:ext cx="62038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4"/>
          <p:cNvSpPr/>
          <p:nvPr/>
        </p:nvSpPr>
        <p:spPr>
          <a:xfrm>
            <a:off x="1346400" y="479736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амин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224320" y="4797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глицер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аминокиселина према поларносрти </a:t>
            </a:r>
            <a:br>
              <a:rPr sz="3200"/>
            </a:b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ларне аминокиселине-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фатична 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711440" y="2421000"/>
          <a:ext cx="81770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2421000"/>
                    <a:ext cx="81770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Box 4"/>
          <p:cNvSpPr/>
          <p:nvPr/>
        </p:nvSpPr>
        <p:spPr>
          <a:xfrm>
            <a:off x="1424160" y="3798720"/>
            <a:ext cx="74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                        Аланин                    Вал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711440" y="6408720"/>
            <a:ext cx="66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ц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Метион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Изолеуц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7534800" y="242100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-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енциј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ларне аминокиселине-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а 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826920" y="2492280"/>
          <a:ext cx="6624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6624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Box 4"/>
          <p:cNvSpPr/>
          <p:nvPr/>
        </p:nvSpPr>
        <p:spPr>
          <a:xfrm>
            <a:off x="1187280" y="611676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алан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Тирозин                        Триптофа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арне аминокиселине-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електрисана 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473120" y="2060640"/>
          <a:ext cx="69865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060640"/>
                    <a:ext cx="6986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4"/>
          <p:cNvSpPr/>
          <p:nvPr/>
        </p:nvSpPr>
        <p:spPr>
          <a:xfrm>
            <a:off x="755640" y="364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н                          Треон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Цисте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474920" y="64562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н                       Аспарагин                 Глут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арне аминокиселине-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итивно наелектрисана 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619280" y="638172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Аргин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Хистид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1565280" y="2060640"/>
          <a:ext cx="64310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060640"/>
                    <a:ext cx="64310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арне аминокиселине-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гативно наелектрисана 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332000" y="2421000"/>
          <a:ext cx="6352920" cy="27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21000"/>
                    <a:ext cx="635292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4"/>
          <p:cNvSpPr/>
          <p:nvPr/>
        </p:nvSpPr>
        <p:spPr>
          <a:xfrm>
            <a:off x="1409760" y="5732640"/>
            <a:ext cx="66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ска киселина                              Глутам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611280" y="2997360"/>
          <a:ext cx="791208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97360"/>
                    <a:ext cx="79120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4"/>
          <p:cNvSpPr/>
          <p:nvPr/>
        </p:nvSpPr>
        <p:spPr>
          <a:xfrm>
            <a:off x="573480" y="2276640"/>
            <a:ext cx="73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нтеза из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алогенкарбоксилних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3783240" y="407664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омкарбоксилн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6598800" y="4221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704880" y="479736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интеза из алдех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513760" y="3429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ша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684360" y="5373720"/>
          <a:ext cx="81723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373720"/>
                    <a:ext cx="8172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Box 11"/>
          <p:cNvSpPr/>
          <p:nvPr/>
        </p:nvSpPr>
        <p:spPr>
          <a:xfrm>
            <a:off x="457200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минонит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7103160" y="63086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65200" y="2276640"/>
            <a:ext cx="78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на синтеза редуктивном аминацијом кет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971640" y="422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етоглутар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589440" y="407664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глутаминск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709200" y="4797360"/>
            <a:ext cx="49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на синтеза трансамин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971640" y="2997360"/>
          <a:ext cx="735624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97360"/>
                    <a:ext cx="73562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225360" y="5589720"/>
          <a:ext cx="891864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5589720"/>
                    <a:ext cx="8918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481320" y="213372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еакције карбокси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826920" y="270828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разовање хе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684360" y="3500280"/>
          <a:ext cx="791352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791352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481320" y="213372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еакције карбокси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826920" y="270828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разовање ес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26920" y="4581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екарбокси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108000" y="3357720"/>
          <a:ext cx="896472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357720"/>
                    <a:ext cx="89647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324000" y="5300640"/>
          <a:ext cx="633564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300640"/>
                    <a:ext cx="63356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хемијског аспекта масти су естри карбоксилних киселина и алкохола-глицерола, па су познате и под називом глицериди, односно триацилглиц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1"/>
          <p:cNvGraphicFramePr/>
          <p:nvPr/>
        </p:nvGraphicFramePr>
        <p:xfrm>
          <a:off x="3038400" y="3046320"/>
          <a:ext cx="2548080" cy="26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3046320"/>
                    <a:ext cx="254808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Box 2"/>
          <p:cNvSpPr/>
          <p:nvPr/>
        </p:nvSpPr>
        <p:spPr>
          <a:xfrm>
            <a:off x="4932360" y="5683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484200" y="21337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еакције амино-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826920" y="2708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еакције са кисалинама. Са јаким киселинам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минокиселине реагују и граде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826920" y="386064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а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аминација под дејством азотасте кисел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39640" y="4941720"/>
          <a:ext cx="796608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941720"/>
                    <a:ext cx="79660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484200" y="21337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еакције амино-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39640" y="2637000"/>
            <a:ext cx="70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а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аминација под дејством одговарајућих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ативна деа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539640" y="3500280"/>
          <a:ext cx="8136000" cy="14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81360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3"/>
          <p:cNvGraphicFramePr/>
          <p:nvPr/>
        </p:nvGraphicFramePr>
        <p:xfrm>
          <a:off x="611280" y="5373720"/>
          <a:ext cx="7632720" cy="97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373720"/>
                    <a:ext cx="763272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Box 7"/>
          <p:cNvSpPr/>
          <p:nvPr/>
        </p:nvSpPr>
        <p:spPr>
          <a:xfrm>
            <a:off x="609120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марн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84200" y="21337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еакције амино-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539640" y="263700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еакција са алдехи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4722120" y="595008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39640" y="4292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циловање и алкиловање амин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11280" y="3213000"/>
          <a:ext cx="7993080" cy="9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213000"/>
                    <a:ext cx="799308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684360" y="4869000"/>
          <a:ext cx="577368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869000"/>
                    <a:ext cx="57736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484200" y="21337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еакције амино-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539640" y="263700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реакција са угљен-диокс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563760" y="4797360"/>
            <a:ext cx="651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реакција са 2,4-динитрофлуорбензеном (DN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539640" y="4292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) транса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611280" y="3213000"/>
          <a:ext cx="799308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213000"/>
                    <a:ext cx="79930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5"/>
          <p:cNvGraphicFramePr/>
          <p:nvPr/>
        </p:nvGraphicFramePr>
        <p:xfrm>
          <a:off x="395280" y="5300640"/>
          <a:ext cx="85392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300640"/>
                    <a:ext cx="8539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496080" y="1773360"/>
            <a:ext cx="79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Реакције у којима истовремено учествују и амино-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рбоксилн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539640" y="213372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циклизација до пиперазинских дерив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48640" y="443700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акција грађења пеп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611280" y="2924280"/>
          <a:ext cx="5329080" cy="16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24280"/>
                    <a:ext cx="53290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5"/>
          <p:cNvGraphicFramePr/>
          <p:nvPr/>
        </p:nvGraphicFramePr>
        <p:xfrm>
          <a:off x="611280" y="4811760"/>
          <a:ext cx="799308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811760"/>
                    <a:ext cx="799308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Box 11"/>
          <p:cNvSpPr/>
          <p:nvPr/>
        </p:nvSpPr>
        <p:spPr>
          <a:xfrm>
            <a:off x="614160" y="6093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и произв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2843280" y="6165720"/>
          <a:ext cx="151272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6165720"/>
                    <a:ext cx="15127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496080" y="2133720"/>
            <a:ext cx="79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Реакције у којима истовремено учествују и амино-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рбоксилн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39640" y="263700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инхидринска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684360" y="3573360"/>
          <a:ext cx="80946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80946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496080" y="1916280"/>
            <a:ext cx="79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Реакције у којима истовремено учествују и амино-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рбоксилн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39640" y="2637000"/>
            <a:ext cx="70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653040" y="292428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еакциј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мин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696960" y="537372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мино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441040" y="56610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684360" y="3500280"/>
          <a:ext cx="6119640" cy="20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611964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96080" y="1844640"/>
            <a:ext cx="79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Реакције у којима истовремено учествују и амино-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рбоксилн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324000" y="270828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реакције бочног низа. Постоји више реакција аминокиселина које зависе од структуре бочног н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које садрже ароматично језгро + азотна киселина →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у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јени дери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које садрже сумпор у бочном низу + олово-ацетат (уз загревање у базној средини) 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г (P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 су амиди који настају реакцијом амино и карбоксилне групе аминокисе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дна груп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CO-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вим једињењима се назива пептидном в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473120" y="3357720"/>
          <a:ext cx="612936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357720"/>
                    <a:ext cx="612936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7" name="Straight Arrow Connector 5"/>
          <p:cNvCxnSpPr/>
          <p:nvPr/>
        </p:nvCxnSpPr>
        <p:spPr>
          <a:xfrm>
            <a:off x="2411280" y="3141360"/>
            <a:ext cx="937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Straight Arrow Connector 7"/>
          <p:cNvCxnSpPr/>
          <p:nvPr/>
        </p:nvCxnSpPr>
        <p:spPr>
          <a:xfrm>
            <a:off x="2411280" y="3141360"/>
            <a:ext cx="3098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TextBox 8"/>
          <p:cNvSpPr/>
          <p:nvPr/>
        </p:nvSpPr>
        <p:spPr>
          <a:xfrm>
            <a:off x="3355200" y="623268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л-валил-фенилал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е везе у пептид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2"/>
          <p:cNvGraphicFramePr/>
          <p:nvPr/>
        </p:nvGraphicFramePr>
        <p:xfrm>
          <a:off x="2050920" y="2133720"/>
          <a:ext cx="5616720" cy="36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133720"/>
                    <a:ext cx="561672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Box 4"/>
          <p:cNvSpPr/>
          <p:nvPr/>
        </p:nvSpPr>
        <p:spPr>
          <a:xfrm>
            <a:off x="176040" y="328464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љеников 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3495600" y="184464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ни 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6999120" y="45813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љеников 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6231600" y="58770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ни 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9"/>
          <p:cNvCxnSpPr>
            <a:stCxn id="245" idx="1"/>
          </p:cNvCxnSpPr>
          <p:nvPr/>
        </p:nvCxnSpPr>
        <p:spPr>
          <a:xfrm flipH="1" flipV="1">
            <a:off x="6659280" y="4508640"/>
            <a:ext cx="343440" cy="27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Straight Arrow Connector 11"/>
          <p:cNvCxnSpPr>
            <a:stCxn id="243" idx="3"/>
          </p:cNvCxnSpPr>
          <p:nvPr/>
        </p:nvCxnSpPr>
        <p:spPr>
          <a:xfrm>
            <a:off x="2320920" y="3484440"/>
            <a:ext cx="667440" cy="1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Straight Arrow Connector 13"/>
          <p:cNvCxnSpPr/>
          <p:nvPr/>
        </p:nvCxnSpPr>
        <p:spPr>
          <a:xfrm flipH="1">
            <a:off x="3202920" y="2060640"/>
            <a:ext cx="36108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0"/>
          <p:cNvCxnSpPr/>
          <p:nvPr/>
        </p:nvCxnSpPr>
        <p:spPr>
          <a:xfrm flipH="1" flipV="1">
            <a:off x="6084360" y="5660280"/>
            <a:ext cx="216720" cy="3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у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сапуна-један од најстаријих хемијских поступ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ан сапун је данас смеша натријумових соли виших масних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 и поступак добијања сапуна је промењ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уни се не растварају у води, већ формирају дисперговане округле облике-миц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епт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ептиди- састоје се из две амино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пептиди- 3 до 10 амин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пептиди (протеини)- садрже више од сто амин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важни пепт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2"/>
          <p:cNvGraphicFramePr/>
          <p:nvPr/>
        </p:nvGraphicFramePr>
        <p:xfrm>
          <a:off x="468360" y="2421000"/>
          <a:ext cx="498636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498636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Box 5"/>
          <p:cNvSpPr/>
          <p:nvPr/>
        </p:nvSpPr>
        <p:spPr>
          <a:xfrm>
            <a:off x="6382800" y="242100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и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6375600" y="3429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то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6454440" y="458136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пре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6442920" y="58053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10"/>
          <p:cNvCxnSpPr>
            <a:stCxn id="255" idx="1"/>
          </p:cNvCxnSpPr>
          <p:nvPr/>
        </p:nvCxnSpPr>
        <p:spPr>
          <a:xfrm flipH="1" flipV="1">
            <a:off x="5363640" y="2636280"/>
            <a:ext cx="1008720" cy="1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Straight Arrow Connector 12"/>
          <p:cNvCxnSpPr/>
          <p:nvPr/>
        </p:nvCxnSpPr>
        <p:spPr>
          <a:xfrm flipH="1" flipV="1">
            <a:off x="5363640" y="3644280"/>
            <a:ext cx="1008720" cy="1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3"/>
          <p:cNvCxnSpPr/>
          <p:nvPr/>
        </p:nvCxnSpPr>
        <p:spPr>
          <a:xfrm flipH="1" flipV="1">
            <a:off x="5435280" y="4868640"/>
            <a:ext cx="1008720" cy="1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потиче од грчке речи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o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 са нуклеинским киселинама представљају најважније компоненте ћел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мб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то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те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арна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ослед везивања аминокисе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кундарна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ин увијања молекула пептида у прост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- хел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- набрана конфигу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рцијарна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ље савијање у односу на секундарну, увијање у спиралу и агрегација попипеп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ватенарна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авља се код протеина који имају два или више ланаца аминокиселина и представља њихову комбина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те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385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ц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мицела може садржати стотине молекула сап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сапуна има поларни крај –СОО 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поларни крај који чине угљеникови ланци са 12 до 18 С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и крај је растворљив у води- хидрофилан, а неполарни није растворљив у води-хидрофобан, али се раствара у неполарним растварач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611280" y="1916280"/>
          <a:ext cx="3889440" cy="38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388944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2" name="Straight Arrow Connector 8"/>
          <p:cNvCxnSpPr/>
          <p:nvPr/>
        </p:nvCxnSpPr>
        <p:spPr>
          <a:xfrm flipH="1">
            <a:off x="4012920" y="1773000"/>
            <a:ext cx="1280160" cy="719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10"/>
          <p:cNvCxnSpPr/>
          <p:nvPr/>
        </p:nvCxnSpPr>
        <p:spPr>
          <a:xfrm flipH="1" flipV="1">
            <a:off x="2842920" y="4581000"/>
            <a:ext cx="1332720" cy="136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TextBox 12"/>
          <p:cNvSpPr/>
          <p:nvPr/>
        </p:nvSpPr>
        <p:spPr>
          <a:xfrm>
            <a:off x="5303520" y="15876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и 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4181760" y="57643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и 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и хемијске особине масти и уља зависе искључиво од структуре масних киселина које улазе у њихов 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 могу бити засићене и незасић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незасићене киселине имају 18 угљеникових атома и једну двоструку везу, обично на средини ла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аступљенија је палмитинска киселина, а олеинска се налази у највећем броју природних масти и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205000"/>
          <a:ext cx="8229600" cy="4392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2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С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ић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урин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ист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мит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а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ахид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е 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цериди који садрже незасићене масне киселине имају ниже тачке топљења, па се неке од њих на собној температури налазе у течном с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ом двоструких веза глицериди прелазе у чврсто с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ом се мењају и физичка и хемијска својства глицер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се брзина ужегл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9-06-04T10:40:12Z</dcterms:modified>
  <cp:revision>291</cp:revision>
  <dc:subject/>
  <dc:title>Slide 1</dc:title>
</cp:coreProperties>
</file>